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1.gif" ContentType="image/gif"/>
  <Override PartName="/ppt/media/image14.png" ContentType="image/png"/>
  <Override PartName="/ppt/media/image6.jpeg" ContentType="image/jpeg"/>
  <Override PartName="/ppt/media/image8.wmf" ContentType="image/x-wmf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6A2B-17C4-41D2-99B1-D10D5CAEEED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F966-5777-4457-B200-C7BD3CED062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9D18-BE08-4488-AEDB-62A333F132F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C184-9336-46B4-BE10-CAC7BE7F567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92D2-60FA-4DE2-BD87-69F1DB626AE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77E7-5643-4036-8AF5-392CD0DC4D8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779F-0DD7-4B79-8DF9-142FB263476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73CD-0BF4-4C5F-A51D-28DD88758D6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CE5D-D089-40A6-BBD7-537CB5148EE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 u="sng">
              <a:solidFill>
                <a:srgbClr val="000000"/>
              </a:solidFill>
              <a:uFillTx/>
              <a:latin typeface="Calibri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0048-D8D3-484C-AD97-6CA4A63835A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E0D3-7B2D-4E2C-80E3-9D275AE2815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F635-1AFA-4710-B481-620E8B1E44E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96C7-A47F-41C0-B04B-A5654292868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E288-2FFA-44C7-88EE-D197DEA4ECA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76AE-E391-4E43-BDAB-7604F49BA13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4342-3DEA-4158-8B34-8F3937ED84F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D2AD-3688-4EA8-992F-7D53F49185B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DA6B-944E-4E8A-8712-B67B1CE8BF6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B31C-B7C2-405D-829D-964C7EA4CCB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6D3F-70D8-4761-8ECD-49AE847C2E8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D424-8275-4569-91DA-9B6B234F621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B9B0-615C-4797-AEBB-F3184AA862D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B721-59A8-4485-8963-B20474AFF82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5C22-7DB5-484B-8B5B-3B763D861DC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3ADC-E12B-4C40-8C98-03B6E0D3580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AAE43-1EBB-4632-BBCB-AC5EF9FD13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5687F-B126-472A-8793-7688C030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4165-4712-4045-B81F-CB600A92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07063-E3B4-4169-820E-36F175375D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1F715-C8E5-4DF6-8B2C-265BFEE6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1D15E-B395-4CB4-B78C-A580E2A0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64D71-6BE3-4C53-9E08-1F57AD14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70FD-40A3-40B0-A6CD-4534117E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5A46-9053-46A6-9BF5-C3110916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390A2-DB69-4D81-9502-A6B883C6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CFBAF-B95F-41E0-88BC-7CC7AEF2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2AEE-6DBE-429D-861F-C656972E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6324-A878-42AC-8B03-A66FAD330FA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60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饮食与营养的需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Rectangle 1026"/>
          <p:cNvSpPr/>
          <p:nvPr/>
        </p:nvSpPr>
        <p:spPr>
          <a:xfrm>
            <a:off x="395280" y="134136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常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钙、镁、钠、钾、磷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微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铁、铜、碘、锌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人体必需的营养素，在能量代谢、构成机体和修复等过程中具有调节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铁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贫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钙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碘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状腺肿、儿童生长停滞、智力低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锌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长发育迟缓、异食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035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脂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A, D, E, 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水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族维生素和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Vit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404" name="Object 2"/>
          <p:cNvGraphicFramePr/>
          <p:nvPr/>
        </p:nvGraphicFramePr>
        <p:xfrm>
          <a:off x="3995640" y="1989000"/>
          <a:ext cx="47307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47307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50920" y="1341360"/>
            <a:ext cx="80769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促进生长发育和调节生理功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盲症、皮肤干燥、脱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E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氧化剂（美容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止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C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伤口愈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族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合维生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治疗口角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8" name="Picture 6" descr="Ap13008GAI"/>
          <p:cNvPicPr/>
          <p:nvPr/>
        </p:nvPicPr>
        <p:blipFill>
          <a:blip r:embed="rId1"/>
          <a:stretch/>
        </p:blipFill>
        <p:spPr>
          <a:xfrm>
            <a:off x="6300720" y="4292640"/>
            <a:ext cx="262728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62864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2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~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3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ml/d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包括食物中含水量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构成人体组织（血液、细胞间液、消化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溶解和运送营养素和代谢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调节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润滑作用（泪液、唾液、关节腔滑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1" name="Picture 6" descr="gif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4508640"/>
            <a:ext cx="1201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642960" y="642960"/>
            <a:ext cx="79297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三、影响饮食与营养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欲：进食环境；患者情绪、舒适度；食物外观、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特殊生理状况：婴儿、青春期、孕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哺乳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疾病及药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社会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经济状况、地理位置、心理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医院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1440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基本饮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普通饮食、    软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饮食、流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治疗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蛋白饮食、低蛋白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量饮食、低脂肪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低盐饮食、无盐低钠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试验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潜血试验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囊造影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忌碘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60948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普通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病情较轻或恢复期，消化功能正常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软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幼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消化不良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咀嚼不便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恢复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软烂碎、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755640" y="1557360"/>
            <a:ext cx="7777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半流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发热、体弱、消化道疾患、口腔疾患、咀嚼不便、术后、消化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状、质细软、易消化、易咀嚼和吞咽、无刺激、膳食纤维含量少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755640" y="1844640"/>
            <a:ext cx="7850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流质饮食</a:t>
            </a:r>
            <a:r>
              <a:rPr b="0" lang="en-US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过渡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危重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腔疾患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急性消化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物呈液体状，无刺激性、热量和营养素不足，短期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0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324000" y="134136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高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期消耗性疾患、严重贫血、烧伤、大手术后、癌症晚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增加蛋白质量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2g/(kg·d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12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急性肾炎、尿毒症、肝性脑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成人蛋白质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4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医院基本饮食、治疗饮食、试验饮食的种类、适用范围、饮食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影响人体营养状况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鼻饲饮食的目的和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按规程正确执行鼻饲法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正确记录患者的出入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为患者实施饮食与营养的护理活动时，能理解并尊重患者，运用有效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685800" y="1600200"/>
            <a:ext cx="815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高热量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亢、高热、烧伤、产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基本饮食加餐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低脂肪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冠心病、高脂血症、肝胆胰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脂肪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&lt;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40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尤其限制动物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68580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5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盐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脏病、急慢性肾炎、肝硬化伴腹水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重度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华文行楷"/>
              </a:rPr>
              <a:t>&lt;2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不包括食物内的自然含钠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380880" y="13716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无盐低钠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同低盐饮食，但水肿较重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无盐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食物自然含钠量外，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不放食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低钠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无盐外，控制摄入食物中的自然含钠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0.5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禁用含钠食物和药物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如油条、挂面、汽水、碳酸氢钠药物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60948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潜血试验饮食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(</a:t>
            </a:r>
            <a:r>
              <a:rPr b="0" lang="en-US" sz="3600" spc="-1" strike="noStrike">
                <a:solidFill>
                  <a:srgbClr val="a50021"/>
                </a:solidFill>
                <a:latin typeface="隶书"/>
                <a:ea typeface="隶书"/>
              </a:rPr>
              <a:t>OB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诊断有无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试验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禁食绿色蔬菜、肉类、动物血、含铁丰富的食物和药物，第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起连续留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粪便做潜血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60948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2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胆囊造影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用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线或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超进行胆囊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管检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中午进高脂肪餐，晚餐进无脂肪饮食，晚餐后服造影剂，禁食禁烟；检查当日禁早餐，检查若显影良好，进食高脂肪餐，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钟后再次检查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714240" y="157176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忌碘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协助检查甲状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禁食含碘高的食物，如海带、紫菜等，禁用碘做局部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一、进食前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造舒适的进食氛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环境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具、食物具有吸引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的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身体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心理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患者进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时，保持患者体位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自行进食者，将食物、餐具放置在患者伸手可及处，必要时可给予协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要护士协助喂食者，采取坐位或半坐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俯卧或平卧的患者，将其头部转向一侧，以免食物呛入气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双目失明或眼睛被遮盖的患者，护士每次喂食物之前，应先告知患者，必要时可触动手臂，使患者有所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满足患者特殊的饮食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特定生理时期者（如孕产妇、老年人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不同疾病状态，有特殊饮食需要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经口进食不足或无法经口进食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三）进食后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：及时撤去餐具，整理床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记录：对暂需禁食或延缓进食的患者做好交接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及饮食与营养的健康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  人体对营养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医院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患者一般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患者的特殊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2463-0D71-4E63-ACD2-7CFAB9A54D4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907640" y="1916280"/>
            <a:ext cx="56883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管喂饮食：鼻饲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要素饮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液体的出入量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患者的特殊饮食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539640" y="1628640"/>
            <a:ext cx="3891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管喂饮食（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tube feeding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是通过导管将营养丰富的流质饮食或营养液、水、药物等注入胃肠道的方法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4686480" y="1974960"/>
            <a:ext cx="422892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适用范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昏迷患者或不能经口进食者，如口腔疾患、口腔术后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能张口的患者，如破伤风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早产儿和病情危重的婴幼儿以及拒绝进食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1714680" y="1500120"/>
            <a:ext cx="3538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操作前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DA7A-0D9B-4527-93D0-53FE6EE377A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250920" y="1523880"/>
            <a:ext cx="9045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插管轻稳，至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15</a:t>
            </a:r>
            <a:r>
              <a:rPr b="0" lang="en-US" sz="3200" spc="-1" strike="noStrike">
                <a:solidFill>
                  <a:srgbClr val="a50021"/>
                </a:solidFill>
                <a:latin typeface="隶书"/>
                <a:ea typeface="隶书"/>
              </a:rPr>
              <a:t>cm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处嘱吞咽（会厌部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恶心、呕吐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暂缓插管，嘱深呼吸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剧烈呛咳、呼吸困难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立即拔出，休息再插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插入不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检查是否盘曲在口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有盘曲，拔回少许再继续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5029200" y="2205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4F37-28D7-48FA-9AA8-40071305395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Rectangle 1026"/>
          <p:cNvSpPr/>
          <p:nvPr/>
        </p:nvSpPr>
        <p:spPr>
          <a:xfrm>
            <a:off x="60948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昏迷患者插管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管前将患者头向后仰 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直气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至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15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cm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时，将头托起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下颌靠近胸骨柄，增大咽喉部通道的弧度，沿后壁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571760" y="3500280"/>
            <a:ext cx="537192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CE4C-B52A-48B1-8E63-2E20B4933A3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611280" y="1413000"/>
            <a:ext cx="815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确认胃管在胃内的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一抽：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射器连接胃管末端，抽吸胃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二听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置听诊器于剑突处，快速向胃管内注入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ml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空气，听气过水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三气泡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将胃管末端放入清水中，若有大量气泡产生，疑插入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食前都应检查并确定胃管确实在胃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EA1A-2E66-4AB1-A44D-052A22DEE88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762120" y="1071720"/>
            <a:ext cx="78483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灌注流质饮食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注前检查胃管是否在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管喂饮食的量开始时宜少，待患者适应后再逐渐增加。含维生素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C 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的饮食注意与奶液分开灌入，以防凝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患者消化不良时，可在奶液中加入适量的酵母粉和乳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一次灌入的管喂饮食液的温度为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38℃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每次量</a:t>
            </a:r>
            <a:r>
              <a:rPr b="0" lang="zh-CN" sz="2400" spc="-1" strike="noStrike">
                <a:solidFill>
                  <a:srgbClr val="ddb523"/>
                </a:solidFill>
                <a:latin typeface="华文行楷"/>
                <a:ea typeface="华文行楷"/>
              </a:rPr>
              <a:t>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超过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0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ml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间隔时间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少于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先灌入少许温开水，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缓慢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灌注流食，然后再灌少许温开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须用药物的鼻饲者，护士应将药片研碎，溶解后再灌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762120" y="1600200"/>
            <a:ext cx="7848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其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长期鼻饲者，护士应每天为其进行口腔护理，胃管需每周更换，晚上拔出，次日晨再从另一鼻孔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管静脉曲张、食管梗阻等患者禁忌插管；食管、胃贲门部手术的患者，通常于术前插胃管，术后若发现胃管堵塞或脱落的情况，应报告医师，慎重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576A-E3FA-432F-839E-28F9CFE304A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762120" y="152388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拔管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嘱患者深呼吸，呼气时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处快速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边拔边将胃管盘曲在手中或弯盘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、热能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由摄取食物的化学能转变而来，供给机体维持生命、生长发育以及从事劳动和各种活动所需的能量。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J/MJ/kca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华文行楷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：又称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元素饮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是一种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化学精致食物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含有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全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人体所需的易于吸收的营养成分，包括游离氨基酸、单糖、主要脂肪酸、维生素、无机盐类和微量元素。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无须经过消化过程，可直接被肠道吸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155736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使用方法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鼻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胃造瘘  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空肠造瘘点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451008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285840" y="714240"/>
            <a:ext cx="8678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要素饮食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证管道通畅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天用温开水冲洗管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持溶液温度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4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行楷"/>
                <a:ea typeface="华文行楷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,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配制应无菌操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加强巡视，密切观察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注意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定期评估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查血糖、尿糖、粪便潜血、出凝血时间、氮排出量、体重、肝功能、电解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物处理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洗干净，每日消毒一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324000" y="2205000"/>
            <a:ext cx="1963440" cy="122400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摄入水分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体液大量丢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539640" y="4292640"/>
            <a:ext cx="2086200" cy="1066680"/>
          </a:xfrm>
          <a:prstGeom prst="flowChartAlternateProcess">
            <a:avLst/>
          </a:prstGeom>
          <a:solidFill>
            <a:srgbClr val="3333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出量＞入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2987640" y="5084640"/>
            <a:ext cx="1922400" cy="914400"/>
          </a:xfrm>
          <a:prstGeom prst="flowChartAlternateProcess">
            <a:avLst/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脱  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6732720" y="2421000"/>
            <a:ext cx="1676160" cy="1371600"/>
          </a:xfrm>
          <a:prstGeom prst="plus">
            <a:avLst>
              <a:gd name="adj" fmla="val 25000"/>
            </a:avLst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5076720" y="4508640"/>
            <a:ext cx="1600200" cy="990360"/>
          </a:xfrm>
          <a:prstGeom prst="wedgeEllipseCallout">
            <a:avLst>
              <a:gd name="adj1" fmla="val -67361"/>
              <a:gd name="adj2" fmla="val 10578"/>
            </a:avLst>
          </a:prstGeom>
          <a:solidFill>
            <a:srgbClr val="993366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4" name="AutoShape 9"/>
          <p:cNvCxnSpPr>
            <a:stCxn id="479" idx="2"/>
            <a:endCxn id="480" idx="1"/>
          </p:cNvCxnSpPr>
          <p:nvPr/>
        </p:nvCxnSpPr>
        <p:spPr>
          <a:xfrm rot="5400000">
            <a:off x="223920" y="3744000"/>
            <a:ext cx="1397880" cy="767520"/>
          </a:xfrm>
          <a:prstGeom prst="bentConnector4">
            <a:avLst>
              <a:gd name="adj1" fmla="val 30783"/>
              <a:gd name="adj2" fmla="val 129798"/>
            </a:avLst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5" name="AutoShape 10"/>
          <p:cNvCxnSpPr>
            <a:stCxn id="480" idx="2"/>
            <a:endCxn id="481" idx="1"/>
          </p:cNvCxnSpPr>
          <p:nvPr/>
        </p:nvCxnSpPr>
        <p:spPr>
          <a:xfrm flipH="1" rot="16200000">
            <a:off x="2192400" y="4747680"/>
            <a:ext cx="183240" cy="1405440"/>
          </a:xfrm>
          <a:prstGeom prst="bentConnector2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6" name="AutoShape 11"/>
          <p:cNvSpPr/>
          <p:nvPr/>
        </p:nvSpPr>
        <p:spPr>
          <a:xfrm>
            <a:off x="2916360" y="2205000"/>
            <a:ext cx="1558800" cy="115272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水分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7" name="AutoShape 12"/>
          <p:cNvCxnSpPr>
            <a:stCxn id="486" idx="3"/>
            <a:endCxn id="482" idx="1"/>
          </p:cNvCxnSpPr>
          <p:nvPr/>
        </p:nvCxnSpPr>
        <p:spPr>
          <a:xfrm>
            <a:off x="4474800" y="2781360"/>
            <a:ext cx="2258280" cy="3261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8" name="AutoShape 13"/>
          <p:cNvCxnSpPr>
            <a:stCxn id="483" idx="6"/>
            <a:endCxn id="482" idx="2"/>
          </p:cNvCxnSpPr>
          <p:nvPr/>
        </p:nvCxnSpPr>
        <p:spPr>
          <a:xfrm flipV="1">
            <a:off x="6676560" y="3792240"/>
            <a:ext cx="894600" cy="12117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9" name="Text Box 14"/>
          <p:cNvSpPr/>
          <p:nvPr/>
        </p:nvSpPr>
        <p:spPr>
          <a:xfrm>
            <a:off x="7262640" y="42130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补液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AutoShape 15"/>
          <p:cNvSpPr/>
          <p:nvPr/>
        </p:nvSpPr>
        <p:spPr>
          <a:xfrm>
            <a:off x="6732720" y="5445000"/>
            <a:ext cx="2160360" cy="93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液体出入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平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6084720" y="5516640"/>
            <a:ext cx="64800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入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摄入的液体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隐藏”于食物中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来源（氧化所产生的水），其中蛋白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4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脂肪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糖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（如输液量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感丧失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粪便中的水分，约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血量、引流量、创面渗液量、呕吐物量、腹泻量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468360" y="1447920"/>
            <a:ext cx="814212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47680" y="1000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记录的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摄水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水量、输液量、输血量等。要求：患者饮水容器应固定，并测定容积；固体食物可记录单位数量或重量，再核算其含水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排出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为尿量，此外其他排出液，如出血量、引流量、创面渗液量、呕吐物量、腹泻量等。要求：能自行排尿的患者，可记录每次尿量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计，也可将尿液集中在一个容器内，定时测量记录；对尿失禁的患者应采取接尿措施，必要时采取留置导尿，以保证计量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入量的记录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一步：分条目详细记录每一部分的液体出量和入量的情况（一般为每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二步：计算和汇总液体出量和液体入量。可先记录在出入液量记录单上，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蓝笔记录；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红笔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三步：在体温单上记录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总液体出量和入量。每日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入液量小结；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结，并记录在体温单相应栏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影响热能需要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560" y="1371240"/>
            <a:ext cx="4228920" cy="407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基础代谢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各组织成分和体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营养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疾病与内分泌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6120" y="1371240"/>
            <a:ext cx="4228920" cy="4073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活动强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极轻、轻、中等、重、极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食物的特殊动力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每天约消耗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150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kca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蛋白质最大，其次是糖类、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928800" y="5357880"/>
            <a:ext cx="7696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意：热能需要＝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所需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儿童需加上生长发育所需要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714400" y="1285560"/>
            <a:ext cx="3552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二、营养素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糖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395280" y="14130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所需量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0.92g/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kg·d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（成人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必需氨基酸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体不能合称或合成不足，必须从食物中获得的氨基酸（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：提供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%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、修补、更新人体细胞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参与机体各种生理活动（酶、激素、抗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4" name="Picture 7" descr="j0199283"/>
          <p:cNvPicPr/>
          <p:nvPr/>
        </p:nvPicPr>
        <p:blipFill>
          <a:blip r:embed="rId1"/>
          <a:stretch/>
        </p:blipFill>
        <p:spPr>
          <a:xfrm>
            <a:off x="6443640" y="3573360"/>
            <a:ext cx="237636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Rectangle 2050"/>
          <p:cNvSpPr/>
          <p:nvPr/>
        </p:nvSpPr>
        <p:spPr>
          <a:xfrm>
            <a:off x="68580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Verdana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量的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%~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和储存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促进脂溶性维生素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维持体温，保护脏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改善食物味道，引起食欲，增加饱足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糖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Rectangle 3074"/>
          <p:cNvSpPr/>
          <p:nvPr/>
        </p:nvSpPr>
        <p:spPr>
          <a:xfrm>
            <a:off x="68580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能的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70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神经组织和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保肝解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生酮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9" name="Picture 3078" descr="BD08911_"/>
          <p:cNvPicPr/>
          <p:nvPr/>
        </p:nvPicPr>
        <p:blipFill>
          <a:blip r:embed="rId1"/>
          <a:stretch/>
        </p:blipFill>
        <p:spPr>
          <a:xfrm>
            <a:off x="5508720" y="39337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18:53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